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B344-C704-4D68-AA07-790E51C19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48C8-012F-4C89-9966-6A79CE40B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C4F-C5DB-41D4-958B-5279341B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80A-D1C2-4C1B-97D6-34EC9637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62D-E296-4FC0-88CE-7CC04B8D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ED4-E1B8-4389-A23C-88E43E53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399-A2D2-4E42-A181-E1A5F6C7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0FA-87FB-4290-81DA-BA2AECE2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7F7-538C-4443-8DF7-69BD0251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2E1-60EB-4FB6-ABCE-3281AFBE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C55-C71C-4CC1-B9F4-E6F6B8E8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C6A-9243-483A-B555-DBC01FCD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025-F794-4910-A9F5-C6CA2899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AFD-9CCA-4DFD-B6C6-063939F4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29DB-BD61-42F2-9C91-6C5FF6D25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qnyc.org/NYC040844/image/Chromosome.gif&amp;imgrefurl=http://www.tqnyc.org/NYC040844/Mitosis.htm&amp;h=480&amp;w=542&amp;sz=148&amp;tbnid=zjqy5FXJzo4J:&amp;tbnh=115&amp;tbnw=130&amp;hl=en&amp;start=4&amp;prev=/images%3Fq%3Dchromosome%26svnum%3D10%26hl%3Den%26lr%3D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GROWTH &amp;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2"/>
          <p:cNvGraphicFramePr/>
          <p:nvPr/>
        </p:nvGraphicFramePr>
        <p:xfrm>
          <a:off x="1066680" y="228600"/>
          <a:ext cx="6886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6886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DNA%20proton%20tunnelling2"/>
          <p:cNvPicPr/>
          <p:nvPr/>
        </p:nvPicPr>
        <p:blipFill>
          <a:blip r:embed="rId1"/>
          <a:stretch/>
        </p:blipFill>
        <p:spPr>
          <a:xfrm>
            <a:off x="457200" y="380880"/>
            <a:ext cx="3657600" cy="6096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na-base%20pairs"/>
          <p:cNvPicPr/>
          <p:nvPr/>
        </p:nvPicPr>
        <p:blipFill>
          <a:blip r:embed="rId2"/>
          <a:stretch/>
        </p:blipFill>
        <p:spPr>
          <a:xfrm>
            <a:off x="4114800" y="457200"/>
            <a:ext cx="4809960" cy="6019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AtomLabeledLarge"/>
          <p:cNvPicPr/>
          <p:nvPr/>
        </p:nvPicPr>
        <p:blipFill>
          <a:blip r:embed="rId3"/>
          <a:stretch/>
        </p:blipFill>
        <p:spPr>
          <a:xfrm>
            <a:off x="2819520" y="304920"/>
            <a:ext cx="1404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 chromoso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09_a"/>
          <p:cNvPicPr/>
          <p:nvPr/>
        </p:nvPicPr>
        <p:blipFill>
          <a:blip r:embed="rId1"/>
          <a:stretch/>
        </p:blipFill>
        <p:spPr>
          <a:xfrm>
            <a:off x="558720" y="838080"/>
            <a:ext cx="77472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cell is “resting”, you cannot see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unw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chroma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cell is dividing, you can see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nd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of two sister chromatids connected by a centrom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hromos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6320" y="5394240"/>
            <a:ext cx="1625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in eukaryotic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period of time from the beginning of one cell division to the beginning of the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doubles its contents so that it is ready to divide into two completely independen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s of 4 pha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nse growth and activity; new proteins and organelles are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pha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ying of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nse growth and activity; new proteins and organelles are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est of the three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phase – mito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division of the ce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us and cytokin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lls do not move through the cell cycle at the sam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120" y="236196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a developing embryo replicate rapidly- 3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time of cell cycle- 20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esophagus- 2-3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small intestine- 1-2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large intestine- 6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-12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 blood cells- 10hrs-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stops growing in G1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conditions are right, cell will leave G1 and go through S phase, G2, and M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lls stop going through the cell cycle.  They are permanently in the G1 stage (normal cell function).   This stage is referred to as G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diac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cells (m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 ph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n which the cell divides into two independent cel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ughter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eukaryotes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990720" y="4648320"/>
          <a:ext cx="68864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6886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028"/>
          <p:cNvSpPr/>
          <p:nvPr/>
        </p:nvSpPr>
        <p:spPr>
          <a:xfrm>
            <a:off x="3213000" y="1419120"/>
            <a:ext cx="1828800" cy="723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29"/>
          <p:cNvSpPr/>
          <p:nvPr/>
        </p:nvSpPr>
        <p:spPr>
          <a:xfrm>
            <a:off x="4127400" y="214308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0"/>
          <p:cNvSpPr/>
          <p:nvPr/>
        </p:nvSpPr>
        <p:spPr>
          <a:xfrm>
            <a:off x="3556080" y="2306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38"/>
          <p:cNvSpPr/>
          <p:nvPr/>
        </p:nvSpPr>
        <p:spPr>
          <a:xfrm>
            <a:off x="1946160" y="376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9"/>
          <p:cNvSpPr/>
          <p:nvPr/>
        </p:nvSpPr>
        <p:spPr>
          <a:xfrm>
            <a:off x="11462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41"/>
          <p:cNvSpPr/>
          <p:nvPr/>
        </p:nvSpPr>
        <p:spPr>
          <a:xfrm>
            <a:off x="6890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47"/>
          <p:cNvSpPr/>
          <p:nvPr/>
        </p:nvSpPr>
        <p:spPr>
          <a:xfrm>
            <a:off x="31892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53"/>
          <p:cNvSpPr/>
          <p:nvPr/>
        </p:nvSpPr>
        <p:spPr>
          <a:xfrm>
            <a:off x="68904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4"/>
          <p:cNvSpPr/>
          <p:nvPr/>
        </p:nvSpPr>
        <p:spPr>
          <a:xfrm>
            <a:off x="55148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56"/>
          <p:cNvSpPr/>
          <p:nvPr/>
        </p:nvSpPr>
        <p:spPr>
          <a:xfrm>
            <a:off x="6315120" y="373680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46"/>
          <p:cNvSpPr/>
          <p:nvPr/>
        </p:nvSpPr>
        <p:spPr>
          <a:xfrm>
            <a:off x="4441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45"/>
          <p:cNvSpPr/>
          <p:nvPr/>
        </p:nvSpPr>
        <p:spPr>
          <a:xfrm>
            <a:off x="5692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44"/>
          <p:cNvSpPr/>
          <p:nvPr/>
        </p:nvSpPr>
        <p:spPr>
          <a:xfrm>
            <a:off x="6943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43"/>
          <p:cNvSpPr/>
          <p:nvPr/>
        </p:nvSpPr>
        <p:spPr>
          <a:xfrm>
            <a:off x="8194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62"/>
          <p:cNvSpPr/>
          <p:nvPr/>
        </p:nvSpPr>
        <p:spPr>
          <a:xfrm>
            <a:off x="4441680" y="4572000"/>
            <a:ext cx="374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63"/>
          <p:cNvSpPr/>
          <p:nvPr/>
        </p:nvSpPr>
        <p:spPr>
          <a:xfrm>
            <a:off x="6315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51"/>
          <p:cNvSpPr/>
          <p:nvPr/>
        </p:nvSpPr>
        <p:spPr>
          <a:xfrm>
            <a:off x="194004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0560" y="78480"/>
            <a:ext cx="5105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031"/>
          <p:cNvSpPr/>
          <p:nvPr/>
        </p:nvSpPr>
        <p:spPr>
          <a:xfrm>
            <a:off x="4127400" y="2562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32"/>
          <p:cNvSpPr/>
          <p:nvPr/>
        </p:nvSpPr>
        <p:spPr>
          <a:xfrm>
            <a:off x="1943280" y="2752560"/>
            <a:ext cx="438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33"/>
          <p:cNvSpPr/>
          <p:nvPr/>
        </p:nvSpPr>
        <p:spPr>
          <a:xfrm>
            <a:off x="194616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74"/>
          <p:cNvSpPr/>
          <p:nvPr/>
        </p:nvSpPr>
        <p:spPr>
          <a:xfrm>
            <a:off x="631512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7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76"/>
          <p:cNvSpPr/>
          <p:nvPr/>
        </p:nvSpPr>
        <p:spPr>
          <a:xfrm>
            <a:off x="3236760" y="1428840"/>
            <a:ext cx="1828800" cy="723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78"/>
          <p:cNvSpPr/>
          <p:nvPr/>
        </p:nvSpPr>
        <p:spPr>
          <a:xfrm>
            <a:off x="163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84"/>
          <p:cNvSpPr/>
          <p:nvPr/>
        </p:nvSpPr>
        <p:spPr>
          <a:xfrm>
            <a:off x="1414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86"/>
          <p:cNvSpPr/>
          <p:nvPr/>
        </p:nvSpPr>
        <p:spPr>
          <a:xfrm>
            <a:off x="1360440" y="3089160"/>
            <a:ext cx="12193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87"/>
          <p:cNvSpPr/>
          <p:nvPr/>
        </p:nvSpPr>
        <p:spPr>
          <a:xfrm>
            <a:off x="5729400" y="3089160"/>
            <a:ext cx="1218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88"/>
          <p:cNvSpPr/>
          <p:nvPr/>
        </p:nvSpPr>
        <p:spPr>
          <a:xfrm>
            <a:off x="2665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89"/>
          <p:cNvSpPr/>
          <p:nvPr/>
        </p:nvSpPr>
        <p:spPr>
          <a:xfrm>
            <a:off x="3916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90"/>
          <p:cNvSpPr/>
          <p:nvPr/>
        </p:nvSpPr>
        <p:spPr>
          <a:xfrm>
            <a:off x="51800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93"/>
          <p:cNvSpPr/>
          <p:nvPr/>
        </p:nvSpPr>
        <p:spPr>
          <a:xfrm>
            <a:off x="6402240" y="4869000"/>
            <a:ext cx="1097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94"/>
          <p:cNvSpPr/>
          <p:nvPr/>
        </p:nvSpPr>
        <p:spPr>
          <a:xfrm>
            <a:off x="766908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114"/>
          <p:cNvGrpSpPr/>
          <p:nvPr/>
        </p:nvGrpSpPr>
        <p:grpSpPr>
          <a:xfrm>
            <a:off x="1442880" y="3187800"/>
            <a:ext cx="5415120" cy="459000"/>
            <a:chOff x="1442880" y="3187800"/>
            <a:chExt cx="5415120" cy="459000"/>
          </a:xfrm>
        </p:grpSpPr>
        <p:sp>
          <p:nvSpPr>
            <p:cNvPr id="132" name="Text Box 1095"/>
            <p:cNvSpPr/>
            <p:nvPr/>
          </p:nvSpPr>
          <p:spPr>
            <a:xfrm>
              <a:off x="5838840" y="318780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 pha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Mito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96"/>
            <p:cNvSpPr/>
            <p:nvPr/>
          </p:nvSpPr>
          <p:spPr>
            <a:xfrm>
              <a:off x="1442880" y="3262320"/>
              <a:ext cx="107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ter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06"/>
          <p:cNvGrpSpPr/>
          <p:nvPr/>
        </p:nvGrpSpPr>
        <p:grpSpPr>
          <a:xfrm>
            <a:off x="285840" y="4957920"/>
            <a:ext cx="8416800" cy="301320"/>
            <a:chOff x="285840" y="4957920"/>
            <a:chExt cx="8416800" cy="301320"/>
          </a:xfrm>
        </p:grpSpPr>
        <p:sp>
          <p:nvSpPr>
            <p:cNvPr id="135" name="Text Box 1107"/>
            <p:cNvSpPr/>
            <p:nvPr/>
          </p:nvSpPr>
          <p:spPr>
            <a:xfrm>
              <a:off x="285840" y="4957920"/>
              <a:ext cx="86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08"/>
            <p:cNvSpPr/>
            <p:nvPr/>
          </p:nvSpPr>
          <p:spPr>
            <a:xfrm>
              <a:off x="153360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109"/>
            <p:cNvSpPr/>
            <p:nvPr/>
          </p:nvSpPr>
          <p:spPr>
            <a:xfrm>
              <a:off x="403848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10"/>
            <p:cNvSpPr/>
            <p:nvPr/>
          </p:nvSpPr>
          <p:spPr>
            <a:xfrm>
              <a:off x="2727360" y="4957920"/>
              <a:ext cx="995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11"/>
            <p:cNvSpPr/>
            <p:nvPr/>
          </p:nvSpPr>
          <p:spPr>
            <a:xfrm>
              <a:off x="5216400" y="4957920"/>
              <a:ext cx="104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et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12"/>
            <p:cNvSpPr/>
            <p:nvPr/>
          </p:nvSpPr>
          <p:spPr>
            <a:xfrm>
              <a:off x="7743960" y="4957920"/>
              <a:ext cx="95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l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113"/>
            <p:cNvSpPr/>
            <p:nvPr/>
          </p:nvSpPr>
          <p:spPr>
            <a:xfrm>
              <a:off x="6488280" y="495792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cell di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four main ph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Object 2"/>
          <p:cNvGraphicFramePr/>
          <p:nvPr/>
        </p:nvGraphicFramePr>
        <p:xfrm>
          <a:off x="3200400" y="4648320"/>
          <a:ext cx="5591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648320"/>
                    <a:ext cx="5591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ll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ger the cell becom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demands the cell places on its 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trouble moving enough nutrients and wastes across the cell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est of the four ph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 of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of sister chromat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hed at the centrom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us undergoes sever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mbrane begins to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c09_03"/>
          <p:cNvPicPr/>
          <p:nvPr/>
        </p:nvPicPr>
        <p:blipFill>
          <a:blip r:embed="rId1"/>
          <a:stretch/>
        </p:blipFill>
        <p:spPr>
          <a:xfrm>
            <a:off x="5867280" y="304920"/>
            <a:ext cx="3276720" cy="3962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www.biologycorner.com/resources/mitosis/mitosis_prophase.gif"/>
          <p:cNvPicPr/>
          <p:nvPr/>
        </p:nvPicPr>
        <p:blipFill>
          <a:blip r:embed="rId2"/>
          <a:stretch/>
        </p:blipFill>
        <p:spPr>
          <a:xfrm>
            <a:off x="7315200" y="4648320"/>
            <a:ext cx="16257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ndle begin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ies of microtubules that span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is to pull chromatids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attach to the spindle at the centrom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imals, spindle is created by the centri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lants, spindle is created between the cell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do not have centri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centriole"/>
          <p:cNvPicPr/>
          <p:nvPr/>
        </p:nvPicPr>
        <p:blipFill>
          <a:blip r:embed="rId1"/>
          <a:stretch/>
        </p:blipFill>
        <p:spPr>
          <a:xfrm>
            <a:off x="6172200" y="4495680"/>
            <a:ext cx="2666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est phase of mit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line up in the middl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990720" y="3733920"/>
          <a:ext cx="71913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71913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7" name="Straight Arrow Connector 5"/>
          <p:cNvCxnSpPr/>
          <p:nvPr/>
        </p:nvCxnSpPr>
        <p:spPr>
          <a:xfrm flipH="1">
            <a:off x="4493520" y="3430080"/>
            <a:ext cx="396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meres sp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r chromatids are pulled to the opposite ends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http://www.brhs.ab.ca/courses/biology30/bpages/unit2/quiz/anaphase_1.gif"/>
          <p:cNvPicPr/>
          <p:nvPr/>
        </p:nvPicPr>
        <p:blipFill>
          <a:blip r:embed="rId1"/>
          <a:stretch/>
        </p:blipFill>
        <p:spPr>
          <a:xfrm>
            <a:off x="5334120" y="3886200"/>
            <a:ext cx="2867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ndle breaks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embrane forms around the chromosomes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unwind to chromatin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http://www.ivy-rose.co.uk/Topics/Cell_Structures/Telophase_cIvyRose.jpg"/>
          <p:cNvPicPr/>
          <p:nvPr/>
        </p:nvPicPr>
        <p:blipFill>
          <a:blip r:embed="rId1"/>
          <a:stretch/>
        </p:blipFill>
        <p:spPr>
          <a:xfrm>
            <a:off x="5334120" y="380880"/>
            <a:ext cx="34383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094200" y="198288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 Cell Mi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back-arrow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71" name="Chapter 10A.mpg" descr=""/>
          <p:cNvPicPr/>
          <p:nvPr/>
        </p:nvPicPr>
        <p:blipFill>
          <a:blip r:embed="rId4"/>
          <a:stretch/>
        </p:blipFill>
        <p:spPr>
          <a:xfrm>
            <a:off x="704880" y="635040"/>
            <a:ext cx="7505640" cy="562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the cytoplasm div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imal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ll pinches in at the middle to create two new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la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ell plate is created in the middl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09_06"/>
          <p:cNvPicPr/>
          <p:nvPr/>
        </p:nvPicPr>
        <p:blipFill>
          <a:blip r:embed="rId1"/>
          <a:stretch/>
        </p:blipFill>
        <p:spPr>
          <a:xfrm>
            <a:off x="584280" y="762120"/>
            <a:ext cx="81025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changing Materi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at whic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wastes, nutrients, gases takes place depends on the surfac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area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# of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at which nutrients and gase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de or u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 and wastes are made depends on volum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to Volume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increases much faster than surface area when a cell is gro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materials cannot keep up with the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cells have a larger surface area to volume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there is more surface area for materials to fit i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 to Volume Rat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bio_ch10_6028"/>
          <p:cNvPicPr/>
          <p:nvPr/>
        </p:nvPicPr>
        <p:blipFill>
          <a:blip r:embed="rId1"/>
          <a:stretch/>
        </p:blipFill>
        <p:spPr>
          <a:xfrm>
            <a:off x="561960" y="1219320"/>
            <a:ext cx="8020080" cy="5333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609480" y="449568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33520" y="525780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09480" y="594360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 to Vol rat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hole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6202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590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pter 10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rder to stay the same size, cells must div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lit in 2: “daughter cell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EXACT copies of each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L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fore dividing, the cell must duplicate everything (DNA &amp; organelles) so that everything is the s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karyotes are simpler (no organell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DNA is copied, cell splits in tw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new cell contains a copy of the DNA call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 of asexual re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00852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 Division in Eukary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084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rs in st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) 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) Division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) Divis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27" descr="bio_ch10_4504"/>
          <p:cNvPicPr/>
          <p:nvPr/>
        </p:nvPicPr>
        <p:blipFill>
          <a:blip r:embed="rId1"/>
          <a:stretch/>
        </p:blipFill>
        <p:spPr>
          <a:xfrm>
            <a:off x="3352680" y="838080"/>
            <a:ext cx="545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 that carry genetic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up of DNA and protein (hist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coils very tight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 of coiling leads to whet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is visible or in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eukaryote has a characteris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chromosom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us of each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mans- 4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g- 7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usefly-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 plant- 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- 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rgillus (fungus)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osophila (fly) 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09_03"/>
          <p:cNvPicPr/>
          <p:nvPr/>
        </p:nvPicPr>
        <p:blipFill>
          <a:blip r:embed="rId1"/>
          <a:stretch/>
        </p:blipFill>
        <p:spPr>
          <a:xfrm>
            <a:off x="4724280" y="30481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1:37:34Z</dcterms:created>
  <dc:creator>Joanne Lilliendahl</dc:creator>
  <dc:description/>
  <dc:language>en-US</dc:language>
  <cp:lastModifiedBy>udsd</cp:lastModifiedBy>
  <dcterms:modified xsi:type="dcterms:W3CDTF">2011-03-18T12:14:10Z</dcterms:modified>
  <cp:revision>34</cp:revision>
  <dc:subject/>
  <dc:title>Slide 1</dc:title>
</cp:coreProperties>
</file>